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5F6-E86E-4F32-AF6F-8C84F410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631-8E98-45D0-924D-9581C70E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8A4-11EE-46FE-A198-4B89C36F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167-7EE5-4EB5-AF6B-E1BE212E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5D76B-EEC8-49E5-BD9C-32299FD9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D2F41-87B1-4D72-ACC8-5AECD62C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4F61B-5F10-4626-BDD2-907A29E4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6A399-2854-425D-A8FC-AB205361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17AE3-9FA1-46D1-8849-1A55E822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E34D6-8468-4CD9-99CE-C39DBD17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B47F6-F0FD-4B63-B4AA-1148AF3A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7FD-275F-40AC-B684-8D824F4C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F5A47-5899-4DA2-9A27-44F8490B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80C31-19C4-4197-B7A2-71657ACC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068E4-3DC3-47BF-9E3D-FD08A6AD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D070B-9753-4234-AFA7-CABFE724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893A6-188A-4D9C-A517-12C3F125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1359F-86A0-4D22-8E90-3B684C45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701E7-37CA-4063-978B-CB5AEF20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93979-3AFA-47CC-8803-63BD38E1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AA0F3-0B95-44E5-AA81-35AC239E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138CF-E556-49CD-96E9-31853266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F66-C463-4325-A8E8-2315812D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7ED22-7A63-40F4-B9BE-CE3FEBAA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7A1B6-D42A-4742-AC97-B0A3C00F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18360-72FE-4F6A-BC54-01B79533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7BECB-704E-47EE-BD1A-1DCE080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455BF-B39C-48BA-B868-0B6FCB27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763E0-9050-4857-A5E5-FC60A2E6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FB061-72A2-42D2-A277-3F48E887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E0F44-A022-4443-AC0E-D9980F51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7A257-0216-4046-9226-FA5314A2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78FC4-3217-41AF-8801-07E66E14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BEA-2D13-4B01-9273-5FB0A776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D4D8B-D029-41ED-A31E-A0E09676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ED429-D941-4DD5-910C-3994E449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BA845-2622-4F4F-8C82-72D1A9FC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13EE9-3545-4438-A652-51D9910A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4DE91-688E-4999-8C74-D5D80AD0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301F5-F366-40EC-B2BD-AFE3830D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70474-97CA-410C-AF56-6640EC30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9D70CE-E2DF-4602-9208-F0F29040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5C204-BED9-4000-8B32-749EC178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DE1CA-3401-41A6-92C5-8B5B7039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264-B7A7-45B3-870D-B7513030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DFE75-F84A-430F-9913-01240FB2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F77C7-3A5E-4E5B-972F-C7DA803F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4BDDF-6245-408A-BBE9-D8CCDF46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826F2-EFE1-4E3F-A021-A7E02C90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281DA-0A63-4A3B-9B46-41AF48F5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1BBC-0F60-4279-8A23-A91E646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54D7D-970E-4106-A594-6FE2B8F3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0C326-89E4-4D94-8544-9BA2D2A9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DE4E1-7233-43A0-8DC5-BC08845E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7B11B-8FC6-4463-8F79-521EBB37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B1E-DEBD-42E8-8247-365912EF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17DF2-E6E0-4D78-A9E8-F6F2AD15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989-43E5-419F-9915-1E7881AF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53A-5DB0-4377-B248-2F63A8B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602-58D4-4831-83A7-37BB32B0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1336680"/>
            <a:ext cx="9144000" cy="552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A606-A995-4DCA-9736-2DE90A96DC17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9"/>
          <p:cNvSpPr/>
          <p:nvPr/>
        </p:nvSpPr>
        <p:spPr>
          <a:xfrm>
            <a:off x="0" y="1332000"/>
            <a:ext cx="9144000" cy="144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293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925720"/>
            <a:ext cx="9144000" cy="1800"/>
          </a:xfrm>
          <a:prstGeom prst="line">
            <a:avLst/>
          </a:prstGeom>
          <a:ln w="12600">
            <a:solidFill>
              <a:srgbClr val="6f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2514600" y="2362320"/>
            <a:ext cx="4114800" cy="112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73CE-2D31-4BDD-829D-B798D07E7D36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3922560"/>
            <a:ext cx="9144000" cy="293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Straight Connector 10"/>
          <p:cNvSpPr/>
          <p:nvPr/>
        </p:nvSpPr>
        <p:spPr>
          <a:xfrm>
            <a:off x="0" y="392112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2514600" y="33685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FA17-54CE-4D4C-8113-A7342B5DF8AD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9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B7C6-B2AE-40DA-BAEB-B4369BB0F5BE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traight Connector 8"/>
          <p:cNvSpPr/>
          <p:nvPr/>
        </p:nvSpPr>
        <p:spPr>
          <a:xfrm flipH="1">
            <a:off x="7694280" y="1440"/>
            <a:ext cx="3240" cy="685800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0"/>
            <a:ext cx="7696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AE9F-E72E-43CD-A6EA-BDE99F7736FB}" type="slidenum">
              <a:rPr b="1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6840" y="13716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In the play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Hamlet</a:t>
            </a: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 the character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                           </a:t>
            </a: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is portrayed as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(character name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                                                                     </a:t>
            </a: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, this is evident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(description of character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                                                                                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________</a:t>
            </a: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. This 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(evidence of characterization from the play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evidence (verb) _________________________________________ 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(explain evidence:  says, means, matters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Shakespeare utilizes _____________ in order to help develop the 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(character name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theme of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________________</a:t>
            </a: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_ .  He does so by ______________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(theme)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______________________________________________________ 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(explain how  the author connects the character to the theme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This is effective because _________________________________ . 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BODY MAP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1T05:10:12Z</dcterms:created>
  <dc:creator>Gabriela Mijares</dc:creator>
  <dc:description/>
  <dc:language>en-US</dc:language>
  <cp:lastModifiedBy>Raegan McGinnis</cp:lastModifiedBy>
  <dcterms:modified xsi:type="dcterms:W3CDTF">2015-02-24T16:44:18Z</dcterms:modified>
  <cp:revision>8</cp:revision>
  <dc:subject/>
  <dc:title>Body Map</dc:title>
</cp:coreProperties>
</file>